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AAE2-80F1-4957-A9CB-15A08F010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09D7-9BFC-426C-AE37-B976D022F8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5778-046A-457C-A225-A8141A805A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1040-0D6B-46A5-8358-26DDDE0EC9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588B-E1AE-45EF-B478-A95EBE98D3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4D33-59E9-4438-BE15-B370CA8571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2250-259B-4DB3-907F-169426F819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EA09-8E59-4E76-89F7-00DF1C477D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4D8F-6269-45AF-ABEA-2B418A4C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EF69-8DE4-445A-A838-586F4768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EAE6-08B2-40AE-A15B-06ED9CB5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EBC-55CF-4BDA-972E-0DB4DBEF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97DF-890F-4678-94BD-8FE665FA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A47D-7CA3-43FE-AD63-07648ECB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6E8D-CE9D-4598-B026-0D00FF88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EED5-0B95-440F-8BE2-9B2E4FB5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4869-8BE2-4D5D-BD40-AB281E4F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8216-B512-4F92-8E2D-C7E41232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7425-5B46-4A7B-B15D-901DEBE5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93F5-2C9A-4C36-A368-E1A3AF8C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729C-C98E-4E37-8F65-3DAB7BA2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87A4-1022-4B9A-BE5B-488D4DB4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EC41-CC77-4052-A972-00882F76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66C8-1809-4B63-BED9-9BBD4064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E1A7-8D6C-48FF-A7C4-DAF9D2ED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1DE0-849A-402A-A3BC-9EAA9910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85B4-FEAC-435A-8089-7A9D69C1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4C8F-508C-4995-BFB7-0604D5AB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FAC7-0BA9-4835-AE0A-8800F5FF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5651-6E0E-4D7E-86B9-9EC1B56F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E04-5D32-41C7-B08C-70FEA6E4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A80-C251-40FA-9DA9-ACD27D62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4353-CAEE-47A8-9ACB-FE00AA0E6E0E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5C28-F0DD-42EA-AC6A-3618FE60A81A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:\Documents and Settings\Owner\Local Settings\Temporary Internet Files\Content.IE5\7PPHA3EV\MCj02990730000[1].wmf"/>
          <p:cNvPicPr/>
          <p:nvPr/>
        </p:nvPicPr>
        <p:blipFill>
          <a:blip r:embed="rId2"/>
          <a:stretch/>
        </p:blipFill>
        <p:spPr>
          <a:xfrm>
            <a:off x="476280" y="1994040"/>
            <a:ext cx="3797280" cy="7046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Documents and Settings\Owner\Local Settings\Temporary Internet Files\Content.IE5\A94D9TBF\MCPE07665_0000[1].wmf"/>
          <p:cNvPicPr/>
          <p:nvPr/>
        </p:nvPicPr>
        <p:blipFill>
          <a:blip r:embed="rId3"/>
          <a:stretch/>
        </p:blipFill>
        <p:spPr>
          <a:xfrm>
            <a:off x="4906800" y="1779480"/>
            <a:ext cx="3535560" cy="8607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95280" y="333360"/>
            <a:ext cx="8569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enever chemical reactions occur, energy is transferred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t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from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the surround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24000" y="2852640"/>
            <a:ext cx="8424720" cy="1068840"/>
          </a:xfrm>
          <a:prstGeom prst="rect">
            <a:avLst/>
          </a:prstGeom>
          <a:solidFill>
            <a:srgbClr val="d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exothermic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reaction is one which transfers heat energy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t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the surrou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24000" y="5157720"/>
            <a:ext cx="8424720" cy="1068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endothermic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reaction is one which takes heat energy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from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the surrou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 flipV="1">
            <a:off x="665964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766764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 flipV="1">
            <a:off x="860436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 flipV="1">
            <a:off x="478944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 flipV="1">
            <a:off x="586908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17"/>
          <p:cNvSpPr/>
          <p:nvPr/>
        </p:nvSpPr>
        <p:spPr>
          <a:xfrm flipV="1">
            <a:off x="190656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 flipV="1">
            <a:off x="291456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21"/>
          <p:cNvSpPr/>
          <p:nvPr/>
        </p:nvSpPr>
        <p:spPr>
          <a:xfrm flipV="1">
            <a:off x="385128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5"/>
          <p:cNvSpPr/>
          <p:nvPr/>
        </p:nvSpPr>
        <p:spPr>
          <a:xfrm flipV="1">
            <a:off x="111600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45"/>
          <p:cNvSpPr/>
          <p:nvPr/>
        </p:nvSpPr>
        <p:spPr>
          <a:xfrm>
            <a:off x="270036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46"/>
          <p:cNvSpPr/>
          <p:nvPr/>
        </p:nvSpPr>
        <p:spPr>
          <a:xfrm>
            <a:off x="190800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50"/>
          <p:cNvSpPr/>
          <p:nvPr/>
        </p:nvSpPr>
        <p:spPr>
          <a:xfrm>
            <a:off x="104472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53"/>
          <p:cNvSpPr/>
          <p:nvPr/>
        </p:nvSpPr>
        <p:spPr>
          <a:xfrm>
            <a:off x="349236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>
            <a:off x="594036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>
            <a:off x="514836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>
            <a:off x="435600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60"/>
          <p:cNvSpPr/>
          <p:nvPr/>
        </p:nvSpPr>
        <p:spPr>
          <a:xfrm>
            <a:off x="759636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61"/>
          <p:cNvSpPr/>
          <p:nvPr/>
        </p:nvSpPr>
        <p:spPr>
          <a:xfrm>
            <a:off x="680400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65"/>
          <p:cNvSpPr/>
          <p:nvPr/>
        </p:nvSpPr>
        <p:spPr>
          <a:xfrm>
            <a:off x="831708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66"/>
          <p:cNvSpPr/>
          <p:nvPr/>
        </p:nvSpPr>
        <p:spPr>
          <a:xfrm flipV="1">
            <a:off x="8748720" y="2923920"/>
            <a:ext cx="395280" cy="21564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68"/>
          <p:cNvSpPr/>
          <p:nvPr/>
        </p:nvSpPr>
        <p:spPr>
          <a:xfrm>
            <a:off x="8748720" y="3716280"/>
            <a:ext cx="395280" cy="144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69"/>
          <p:cNvSpPr/>
          <p:nvPr/>
        </p:nvSpPr>
        <p:spPr>
          <a:xfrm>
            <a:off x="32400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70"/>
          <p:cNvSpPr/>
          <p:nvPr/>
        </p:nvSpPr>
        <p:spPr>
          <a:xfrm flipH="1">
            <a:off x="0" y="3716280"/>
            <a:ext cx="324000" cy="28908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72"/>
          <p:cNvSpPr/>
          <p:nvPr/>
        </p:nvSpPr>
        <p:spPr>
          <a:xfrm flipH="1" flipV="1">
            <a:off x="0" y="2852640"/>
            <a:ext cx="324000" cy="14472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75"/>
          <p:cNvSpPr/>
          <p:nvPr/>
        </p:nvSpPr>
        <p:spPr>
          <a:xfrm>
            <a:off x="226836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76"/>
          <p:cNvSpPr/>
          <p:nvPr/>
        </p:nvSpPr>
        <p:spPr>
          <a:xfrm>
            <a:off x="147636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78"/>
          <p:cNvSpPr/>
          <p:nvPr/>
        </p:nvSpPr>
        <p:spPr>
          <a:xfrm>
            <a:off x="104472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79"/>
          <p:cNvSpPr/>
          <p:nvPr/>
        </p:nvSpPr>
        <p:spPr>
          <a:xfrm>
            <a:off x="392436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80"/>
          <p:cNvSpPr/>
          <p:nvPr/>
        </p:nvSpPr>
        <p:spPr>
          <a:xfrm>
            <a:off x="313200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82"/>
          <p:cNvSpPr/>
          <p:nvPr/>
        </p:nvSpPr>
        <p:spPr>
          <a:xfrm>
            <a:off x="637236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83"/>
          <p:cNvSpPr/>
          <p:nvPr/>
        </p:nvSpPr>
        <p:spPr>
          <a:xfrm>
            <a:off x="558000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7"/>
          <p:cNvSpPr/>
          <p:nvPr/>
        </p:nvSpPr>
        <p:spPr>
          <a:xfrm>
            <a:off x="471636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90"/>
          <p:cNvSpPr/>
          <p:nvPr/>
        </p:nvSpPr>
        <p:spPr>
          <a:xfrm>
            <a:off x="716436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91"/>
          <p:cNvSpPr/>
          <p:nvPr/>
        </p:nvSpPr>
        <p:spPr>
          <a:xfrm>
            <a:off x="867564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92"/>
          <p:cNvSpPr/>
          <p:nvPr/>
        </p:nvSpPr>
        <p:spPr>
          <a:xfrm>
            <a:off x="795672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95"/>
          <p:cNvSpPr/>
          <p:nvPr/>
        </p:nvSpPr>
        <p:spPr>
          <a:xfrm>
            <a:off x="32400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98"/>
          <p:cNvSpPr/>
          <p:nvPr/>
        </p:nvSpPr>
        <p:spPr>
          <a:xfrm flipV="1">
            <a:off x="716436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100"/>
          <p:cNvSpPr/>
          <p:nvPr/>
        </p:nvSpPr>
        <p:spPr>
          <a:xfrm flipV="1">
            <a:off x="817236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102"/>
          <p:cNvSpPr/>
          <p:nvPr/>
        </p:nvSpPr>
        <p:spPr>
          <a:xfrm flipV="1">
            <a:off x="428472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04"/>
          <p:cNvSpPr/>
          <p:nvPr/>
        </p:nvSpPr>
        <p:spPr>
          <a:xfrm flipV="1">
            <a:off x="536580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06"/>
          <p:cNvSpPr/>
          <p:nvPr/>
        </p:nvSpPr>
        <p:spPr>
          <a:xfrm flipV="1">
            <a:off x="630072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08"/>
          <p:cNvSpPr/>
          <p:nvPr/>
        </p:nvSpPr>
        <p:spPr>
          <a:xfrm flipV="1">
            <a:off x="241128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10"/>
          <p:cNvSpPr/>
          <p:nvPr/>
        </p:nvSpPr>
        <p:spPr>
          <a:xfrm flipV="1">
            <a:off x="341964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2"/>
          <p:cNvSpPr/>
          <p:nvPr/>
        </p:nvSpPr>
        <p:spPr>
          <a:xfrm flipV="1">
            <a:off x="61272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14"/>
          <p:cNvSpPr/>
          <p:nvPr/>
        </p:nvSpPr>
        <p:spPr>
          <a:xfrm flipV="1">
            <a:off x="154764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16"/>
          <p:cNvSpPr/>
          <p:nvPr/>
        </p:nvSpPr>
        <p:spPr>
          <a:xfrm flipH="1">
            <a:off x="8748720" y="5013360"/>
            <a:ext cx="395280" cy="2872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17"/>
          <p:cNvSpPr/>
          <p:nvPr/>
        </p:nvSpPr>
        <p:spPr>
          <a:xfrm flipH="1" flipV="1">
            <a:off x="8748720" y="6021000"/>
            <a:ext cx="395280" cy="7164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19"/>
          <p:cNvSpPr/>
          <p:nvPr/>
        </p:nvSpPr>
        <p:spPr>
          <a:xfrm>
            <a:off x="0" y="5084640"/>
            <a:ext cx="250920" cy="2890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20"/>
          <p:cNvSpPr/>
          <p:nvPr/>
        </p:nvSpPr>
        <p:spPr>
          <a:xfrm flipV="1">
            <a:off x="0" y="6022800"/>
            <a:ext cx="250920" cy="2145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755640" y="549360"/>
          <a:ext cx="7848720" cy="3098880"/>
        </p:xfrm>
        <a:graphic>
          <a:graphicData uri="http://schemas.openxmlformats.org/drawingml/2006/table">
            <a:tbl>
              <a:tblPr/>
              <a:tblGrid>
                <a:gridCol w="1655640"/>
                <a:gridCol w="2089440"/>
                <a:gridCol w="2016000"/>
                <a:gridCol w="208764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rting temp.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º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nal temp.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º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othermic or endotherm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</a:tr>
              <a:tr h="5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+ 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 + 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</a:tr>
              <a:tr h="48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 + 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</a:tr>
            </a:tbl>
          </a:graphicData>
        </a:graphic>
      </p:graphicFrame>
      <p:sp>
        <p:nvSpPr>
          <p:cNvPr id="145" name="Text Box 95"/>
          <p:cNvSpPr/>
          <p:nvPr/>
        </p:nvSpPr>
        <p:spPr>
          <a:xfrm>
            <a:off x="250920" y="3933720"/>
            <a:ext cx="8713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.Decide whether each of the above reactions is exothermic or endothermi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2. If the volume of solution was the same in each reaction. Which had the largest energy chan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95280" y="1125360"/>
          <a:ext cx="8569440" cy="5318280"/>
        </p:xfrm>
        <a:graphic>
          <a:graphicData uri="http://schemas.openxmlformats.org/drawingml/2006/table">
            <a:tbl>
              <a:tblPr/>
              <a:tblGrid>
                <a:gridCol w="2952720"/>
                <a:gridCol w="3529080"/>
                <a:gridCol w="208764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ergy chang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ve: energy given ou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ve: energy taken 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othermic or endotherm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</a:tr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thane + Oxyg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9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monium chloride +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lucose + Oxyg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monium chlorid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mmonia + Hydrogen chlori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1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trogen + Hydrog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179280"/>
            <a:ext cx="8962920" cy="59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 a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reversibl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chemical reactions, the products of the reaction can react to produce the original react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reversible reaction is denoted by the double arr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 + B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1" lang="en-GB" sz="3200" spc="-1" strike="noStrike">
                <a:solidFill>
                  <a:srgbClr val="9cb084"/>
                </a:solidFill>
                <a:latin typeface="Comic Sans MS"/>
              </a:rPr>
              <a:t>C +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 &amp; B are reactants</a:t>
            </a: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C &amp; D are products</a:t>
            </a:r>
            <a:r>
              <a:rPr b="0" lang="en-GB" sz="3200" spc="-1" strike="noStrike">
                <a:solidFill>
                  <a:srgbClr val="9cb084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f a reversible reaction is exothermic in one direction. It is endothermic in the other dir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62"/>
          <p:cNvGrpSpPr/>
          <p:nvPr/>
        </p:nvGrpSpPr>
        <p:grpSpPr>
          <a:xfrm>
            <a:off x="3214800" y="4071600"/>
            <a:ext cx="1799280" cy="360360"/>
            <a:chOff x="3214800" y="4071600"/>
            <a:chExt cx="1799280" cy="360360"/>
          </a:xfrm>
        </p:grpSpPr>
        <p:grpSp>
          <p:nvGrpSpPr>
            <p:cNvPr id="149" name="Group 63"/>
            <p:cNvGrpSpPr/>
            <p:nvPr/>
          </p:nvGrpSpPr>
          <p:grpSpPr>
            <a:xfrm>
              <a:off x="3214800" y="4071600"/>
              <a:ext cx="1799280" cy="72720"/>
              <a:chOff x="3214800" y="4071600"/>
              <a:chExt cx="1799280" cy="72720"/>
            </a:xfrm>
          </p:grpSpPr>
          <p:sp>
            <p:nvSpPr>
              <p:cNvPr id="150" name="Line 64"/>
              <p:cNvSpPr/>
              <p:nvPr/>
            </p:nvSpPr>
            <p:spPr>
              <a:xfrm>
                <a:off x="3214800" y="4144320"/>
                <a:ext cx="179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65"/>
              <p:cNvSpPr/>
              <p:nvPr/>
            </p:nvSpPr>
            <p:spPr>
              <a:xfrm flipH="1" flipV="1">
                <a:off x="4349880" y="4071600"/>
                <a:ext cx="663480" cy="72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66"/>
            <p:cNvGrpSpPr/>
            <p:nvPr/>
          </p:nvGrpSpPr>
          <p:grpSpPr>
            <a:xfrm>
              <a:off x="3214800" y="4359240"/>
              <a:ext cx="1799280" cy="72720"/>
              <a:chOff x="3214800" y="4359240"/>
              <a:chExt cx="1799280" cy="72720"/>
            </a:xfrm>
          </p:grpSpPr>
          <p:sp>
            <p:nvSpPr>
              <p:cNvPr id="153" name="Line 67"/>
              <p:cNvSpPr/>
              <p:nvPr/>
            </p:nvSpPr>
            <p:spPr>
              <a:xfrm flipH="1">
                <a:off x="3214800" y="4359240"/>
                <a:ext cx="179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Line 68"/>
              <p:cNvSpPr/>
              <p:nvPr/>
            </p:nvSpPr>
            <p:spPr>
              <a:xfrm>
                <a:off x="3215520" y="4359600"/>
                <a:ext cx="663480" cy="72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0"/>
          <p:cNvSpPr/>
          <p:nvPr/>
        </p:nvSpPr>
        <p:spPr>
          <a:xfrm>
            <a:off x="179280" y="3860640"/>
            <a:ext cx="8964720" cy="1618560"/>
          </a:xfrm>
          <a:prstGeom prst="rect">
            <a:avLst/>
          </a:prstGeom>
          <a:solidFill>
            <a:srgbClr val="d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dding water to anhydrous copper sulphate i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exothermic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nhydrous copper sulphate is whi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Anhydrous is pronounced "an-high-drus“ Anhydrous means "without water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nhydrous copper sulphate is copper sulphate which is completely dry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water is added to it, it turns into the familiar hydrated blue cryst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250920" y="11253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ated copper sulphate          anhydrous copper sulphate + 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12"/>
          <p:cNvGrpSpPr/>
          <p:nvPr/>
        </p:nvGrpSpPr>
        <p:grpSpPr>
          <a:xfrm>
            <a:off x="3492000" y="1196640"/>
            <a:ext cx="576720" cy="217440"/>
            <a:chOff x="3492000" y="1196640"/>
            <a:chExt cx="576720" cy="217440"/>
          </a:xfrm>
        </p:grpSpPr>
        <p:grpSp>
          <p:nvGrpSpPr>
            <p:cNvPr id="158" name="Group 13"/>
            <p:cNvGrpSpPr/>
            <p:nvPr/>
          </p:nvGrpSpPr>
          <p:grpSpPr>
            <a:xfrm>
              <a:off x="3492360" y="1196640"/>
              <a:ext cx="576360" cy="43920"/>
              <a:chOff x="3492360" y="1196640"/>
              <a:chExt cx="576360" cy="43920"/>
            </a:xfrm>
          </p:grpSpPr>
          <p:sp>
            <p:nvSpPr>
              <p:cNvPr id="159" name="Line 14"/>
              <p:cNvSpPr/>
              <p:nvPr/>
            </p:nvSpPr>
            <p:spPr>
              <a:xfrm>
                <a:off x="3492360" y="1240560"/>
                <a:ext cx="576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15"/>
              <p:cNvSpPr/>
              <p:nvPr/>
            </p:nvSpPr>
            <p:spPr>
              <a:xfrm flipH="1" flipV="1">
                <a:off x="3855960" y="1196640"/>
                <a:ext cx="212400" cy="43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3492000" y="1370160"/>
              <a:ext cx="576360" cy="43920"/>
              <a:chOff x="3492000" y="1370160"/>
              <a:chExt cx="576360" cy="43920"/>
            </a:xfrm>
          </p:grpSpPr>
          <p:sp>
            <p:nvSpPr>
              <p:cNvPr id="162" name="Line 17"/>
              <p:cNvSpPr/>
              <p:nvPr/>
            </p:nvSpPr>
            <p:spPr>
              <a:xfrm flipH="1">
                <a:off x="3492000" y="1370160"/>
                <a:ext cx="576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18"/>
              <p:cNvSpPr/>
              <p:nvPr/>
            </p:nvSpPr>
            <p:spPr>
              <a:xfrm>
                <a:off x="3492360" y="1370520"/>
                <a:ext cx="212400" cy="43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Text Box 19"/>
          <p:cNvSpPr/>
          <p:nvPr/>
        </p:nvSpPr>
        <p:spPr>
          <a:xfrm>
            <a:off x="395280" y="1844640"/>
            <a:ext cx="8353440" cy="1313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Hydrated is pronounced "high-dray-tid", it means 'with water'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f blue (hydrated) copper sulphate are heated, a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endothermic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reaction occurs, they lose their water, turn white and become anhydrous copper sulph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24000" y="189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reaction is revers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1"/>
          <p:cNvSpPr/>
          <p:nvPr/>
        </p:nvSpPr>
        <p:spPr>
          <a:xfrm>
            <a:off x="0" y="260280"/>
            <a:ext cx="8964720" cy="25585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ork in groups of four and carry out the following experime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1. Place about 4 spatulas of hydrated copper sulphate in a crush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2. Heat the copper sulphate using a hot plate until it changes col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3. Leave it to cool down for 5 minu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4. Place the </a:t>
            </a: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crucible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 student should hold the bottom of the tube carefully while the partner adds water drop by drop from a pipet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0" y="3284640"/>
            <a:ext cx="914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Answer the following questions in your books (in full sentence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at colour was the copper sulphate at the star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at colour was the copper sulphate at the e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at did you observe at the top of the tub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at colour did the copper sulphate change to after adding the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at does blue copper sulphate have that white copper sulphate doesn’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at did you feel at the bottom of the tube after adding the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ich reaction was exothermic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ich reaction was endothermic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15:47:49Z</dcterms:created>
  <dc:creator>HP registered user</dc:creator>
  <dc:description/>
  <dc:language>en-US</dc:language>
  <cp:lastModifiedBy>Andrea Pascasio</cp:lastModifiedBy>
  <dcterms:modified xsi:type="dcterms:W3CDTF">2008-12-31T06:08:41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